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B16-B397-48A3-9ED3-49CDAAB3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150-37D0-425C-842A-7DD865ED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EF4-A68B-4B7E-AA44-0F31CF89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33A-802A-4662-8DC5-19978C7C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230-29AA-4FF3-A86A-CD68C4A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74B-8F87-4D88-B9D8-710FF00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93D-2E86-47B6-8B56-B2E8FC0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B5A-5655-4B10-8970-093BD08A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CE1-A46E-44F2-8E6F-CB58759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94A-205B-499F-9EC9-4D19D43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9ED-BA14-49C0-8F3C-890C00F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C9C-09AC-4C77-AD6B-5AD7FE2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354-5A30-42BB-8584-938E0F4208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5520" y="-579600"/>
            <a:ext cx="1695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t0.gstatic.com/images?q=tbn:ANd9GcS0Dtw93TkQsBCY2LX4WXiQT2VlVhIlm07St-Puci2RJkPMPwE&amp;t=1&amp;usg=__OBW6ev7LxJjPh1W58blSrWYxYu0="/>
          <p:cNvPicPr/>
          <p:nvPr/>
        </p:nvPicPr>
        <p:blipFill>
          <a:blip r:embed="rId1"/>
          <a:stretch/>
        </p:blipFill>
        <p:spPr>
          <a:xfrm>
            <a:off x="0" y="5229360"/>
            <a:ext cx="363528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/>
          <p:cNvSpPr/>
          <p:nvPr/>
        </p:nvSpPr>
        <p:spPr>
          <a:xfrm>
            <a:off x="155520" y="-579600"/>
            <a:ext cx="1619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155520" y="-579600"/>
            <a:ext cx="15717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http://t3.gstatic.com/images?q=tbn:ANd9GcRpAGJW7ZvsjCk7R41E3EEsdz1A3SeoP9aAJzkYq0MCeZDOP0s&amp;t=1&amp;usg=__qDzFY4Hw459jaNeFUk7xgHs_0xE="/>
          <p:cNvPicPr/>
          <p:nvPr/>
        </p:nvPicPr>
        <p:blipFill>
          <a:blip r:embed="rId2"/>
          <a:stretch/>
        </p:blipFill>
        <p:spPr>
          <a:xfrm>
            <a:off x="3132000" y="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t0.gstatic.com/images?q=tbn:ANd9GcTyGNmwTCKmg8EyDTb9-BfyWxAeO9ErhZ587A4M4lqMVHqVieM&amp;t=1&amp;usg=__OWlmGnnWHYevnEvZ-j-smccQecQ="/>
          <p:cNvPicPr/>
          <p:nvPr/>
        </p:nvPicPr>
        <p:blipFill>
          <a:blip r:embed="rId3"/>
          <a:stretch/>
        </p:blipFill>
        <p:spPr>
          <a:xfrm>
            <a:off x="3132000" y="448164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t0.gstatic.com/images?q=tbn:ANd9GcQDVXTAgjuC3aNFWKoUS0OjKg0XIeNN8FGpElgw0kl4S4zM9kQ&amp;t=1&amp;usg=__c27Y8nlvecxwQZcHkoYT_oJ_12Y="/>
          <p:cNvPicPr/>
          <p:nvPr/>
        </p:nvPicPr>
        <p:blipFill>
          <a:blip r:embed="rId4"/>
          <a:stretch/>
        </p:blipFill>
        <p:spPr>
          <a:xfrm>
            <a:off x="3132000" y="2349360"/>
            <a:ext cx="3095640" cy="215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http://t2.gstatic.com/images?q=tbn:ANd9GcQ-h6y9vEPEgftnDrwXxiu5F8rOlmu-_kjQhU7xZMAg3rvfG2U&amp;t=1&amp;usg=__WAVNFBYYsh310eQMLi57T5gPMlQ="/>
          <p:cNvPicPr/>
          <p:nvPr/>
        </p:nvPicPr>
        <p:blipFill>
          <a:blip r:embed="rId5"/>
          <a:stretch/>
        </p:blipFill>
        <p:spPr>
          <a:xfrm>
            <a:off x="0" y="1197000"/>
            <a:ext cx="313200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http://t3.gstatic.com/images?q=tbn:ANd9GcTFvysIcDfMjITdiklFc6Xxo2ocWSfs9EB6Kh8nW0-BWdyAckA&amp;t=1&amp;usg=__cMDaH9LEPLhjFQohPO1OyTa8UwE="/>
          <p:cNvPicPr/>
          <p:nvPr/>
        </p:nvPicPr>
        <p:blipFill>
          <a:blip r:embed="rId6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ttp://t2.gstatic.com/images?q=tbn:ANd9GcSNja8GPNtoaDCoqCqpBprV8-hlvWVEcnSS_2RK1J0nBOI5Zo8&amp;t=1&amp;usg=___a6Y3LBYsK4IaSF9aFxMvUJdpPk="/>
          <p:cNvPicPr/>
          <p:nvPr/>
        </p:nvPicPr>
        <p:blipFill>
          <a:blip r:embed="rId7"/>
          <a:stretch/>
        </p:blipFill>
        <p:spPr>
          <a:xfrm>
            <a:off x="6227640" y="0"/>
            <a:ext cx="2916360" cy="126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http://t0.gstatic.com/images?q=tbn:ANd9GcQn1ZgP1bnUADnWU9H3E26rqUiXnG2BTSy7LRsqWGbrTxmaV3Y&amp;t=1&amp;h=182&amp;w=204&amp;usg=__0gyoDWNsE2XwkOtk2Xidx8AOP8A="/>
          <p:cNvPicPr/>
          <p:nvPr/>
        </p:nvPicPr>
        <p:blipFill>
          <a:blip r:embed="rId8"/>
          <a:stretch/>
        </p:blipFill>
        <p:spPr>
          <a:xfrm>
            <a:off x="6227640" y="5124600"/>
            <a:ext cx="2916360" cy="173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http://t3.gstatic.com/images?q=tbn:ANd9GcQ9y7yibMqBoWLchu7SK6wxJgS3JEYO7UzYIBK18ENiXwB_FR4&amp;t=1&amp;usg=__ROhhNWo0d8gIR4VPhRxytx0RxqE="/>
          <p:cNvPicPr/>
          <p:nvPr/>
        </p:nvPicPr>
        <p:blipFill>
          <a:blip r:embed="rId9"/>
          <a:stretch/>
        </p:blipFill>
        <p:spPr>
          <a:xfrm>
            <a:off x="6300720" y="1268280"/>
            <a:ext cx="284328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http://hailz1.files.wordpress.com/2008/08/australia.jpg"/>
          <p:cNvPicPr/>
          <p:nvPr/>
        </p:nvPicPr>
        <p:blipFill>
          <a:blip r:embed="rId10"/>
          <a:stretch/>
        </p:blipFill>
        <p:spPr>
          <a:xfrm>
            <a:off x="0" y="3860640"/>
            <a:ext cx="3132000" cy="13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http://t1.gstatic.com/images?q=tbn:ANd9GcSWMbPLriKGLJOg96B29kl8WG1-e-sXrW2q3dUmaoz46082Oac&amp;t=1&amp;usg=__rvQhgUuFtVMgYmIqQ9YQg9X3El8="/>
          <p:cNvPicPr/>
          <p:nvPr/>
        </p:nvPicPr>
        <p:blipFill>
          <a:blip r:embed="rId11"/>
          <a:stretch/>
        </p:blipFill>
        <p:spPr>
          <a:xfrm rot="19203000">
            <a:off x="2714760" y="2388960"/>
            <a:ext cx="1646280" cy="109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http://t1.gstatic.com/images?q=tbn:ANd9GcTbBsy2_V0niJg_Pgqh3OTg93Amusjbf4JV8qGLkBHeYQu_nnA&amp;t=1&amp;usg=__DPN7pKV42LvF-g8nF5xOcW4hQ-Q="/>
          <p:cNvPicPr/>
          <p:nvPr/>
        </p:nvPicPr>
        <p:blipFill>
          <a:blip r:embed="rId12"/>
          <a:stretch/>
        </p:blipFill>
        <p:spPr>
          <a:xfrm>
            <a:off x="0" y="2492280"/>
            <a:ext cx="313200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" descr="http://t1.gstatic.com/images?q=tbn:ANd9GcQYI_Qddb6MekIgadGoorDhVb9cAaL58tD6WC-8kl1QH-jV7Uw&amp;t=1&amp;usg=__Xi926YlU1awqxTp8XE__QfnNkCg="/>
          <p:cNvPicPr/>
          <p:nvPr/>
        </p:nvPicPr>
        <p:blipFill>
          <a:blip r:embed="rId13"/>
          <a:stretch/>
        </p:blipFill>
        <p:spPr>
          <a:xfrm>
            <a:off x="6227640" y="2421000"/>
            <a:ext cx="2916360" cy="107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http://t0.gstatic.com/images?q=tbn:ANd9GcQxfKcQ1GT_rPTnB1RlK87T9OhLx5fQe83p-LY7cC9MtmsBs7w&amp;t=1&amp;usg=__SA5uCPoUNOjhC1ZmrvHJeF0wbBY="/>
          <p:cNvPicPr/>
          <p:nvPr/>
        </p:nvPicPr>
        <p:blipFill>
          <a:blip r:embed="rId14"/>
          <a:stretch/>
        </p:blipFill>
        <p:spPr>
          <a:xfrm rot="1261800">
            <a:off x="2201400" y="609120"/>
            <a:ext cx="1760760" cy="116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http://t0.gstatic.com/images?q=tbn:v6xUFp5a5bCRUM:http://imagecache2.allposters.com/images/pic/LPIPOD04/BN751_3~Sydney-Opera-House-and-Sydney-Harbour-Bridge-at-Sunset-Sydney-Australia-Posters.jpg&amp;t=1"/>
          <p:cNvPicPr/>
          <p:nvPr/>
        </p:nvPicPr>
        <p:blipFill>
          <a:blip r:embed="rId15"/>
          <a:srcRect l="7793" t="8184" r="6468" b="13301"/>
          <a:stretch/>
        </p:blipFill>
        <p:spPr>
          <a:xfrm rot="1368600">
            <a:off x="2626920" y="4653000"/>
            <a:ext cx="1513080" cy="185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hateverthingsare.files.wordpress.com/2007/12/ch048-mince-pies-186311.jpg"/>
          <p:cNvPicPr/>
          <p:nvPr/>
        </p:nvPicPr>
        <p:blipFill>
          <a:blip r:embed="rId16"/>
          <a:stretch/>
        </p:blipFill>
        <p:spPr>
          <a:xfrm rot="1353600">
            <a:off x="2338200" y="33192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http://www.jrbriggs.com/wp-content/uploads/2010/04/world-religions-11.jpg"/>
          <p:cNvPicPr/>
          <p:nvPr/>
        </p:nvPicPr>
        <p:blipFill>
          <a:blip r:embed="rId17"/>
          <a:stretch/>
        </p:blipFill>
        <p:spPr>
          <a:xfrm>
            <a:off x="6227640" y="3500280"/>
            <a:ext cx="291636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2" descr="http://t3.gstatic.com/images?q=tbn:ANd9GcSCojd_s0ar2QwwnvD2cugj5BsiLrzEE0laabnMSglPeycOOBw&amp;t=1&amp;usg=__Yy0EXsFFKC_O1iKBQjkCDqKkCnw="/>
          <p:cNvPicPr/>
          <p:nvPr/>
        </p:nvPicPr>
        <p:blipFill>
          <a:blip r:embed="rId18"/>
          <a:stretch/>
        </p:blipFill>
        <p:spPr>
          <a:xfrm rot="20491800">
            <a:off x="5230800" y="1714320"/>
            <a:ext cx="1338120" cy="21002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6"/>
          <p:cNvSpPr/>
          <p:nvPr/>
        </p:nvSpPr>
        <p:spPr>
          <a:xfrm>
            <a:off x="155520" y="-639720"/>
            <a:ext cx="1143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8"/>
          <p:cNvSpPr/>
          <p:nvPr/>
        </p:nvSpPr>
        <p:spPr>
          <a:xfrm>
            <a:off x="155520" y="-639720"/>
            <a:ext cx="1143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0" descr="http://t1.gstatic.com/images?q=tbn:ANd9GcQ0gS8os3tCX7KXgXHSKw0rSQQNqqzOUNBg9rCPZYQtKyt3yCw&amp;t=1&amp;usg=__ZTJvcqGr_HZhppMzcW5OKc1e0WI="/>
          <p:cNvPicPr/>
          <p:nvPr/>
        </p:nvPicPr>
        <p:blipFill>
          <a:blip r:embed="rId19"/>
          <a:stretch/>
        </p:blipFill>
        <p:spPr>
          <a:xfrm rot="1226400">
            <a:off x="5516640" y="142920"/>
            <a:ext cx="1011240" cy="10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http://www.gowhere.com/travel/great%20barrier%20reef%20cruise%20tour.jpg"/>
          <p:cNvPicPr/>
          <p:nvPr/>
        </p:nvPicPr>
        <p:blipFill>
          <a:blip r:embed="rId20"/>
          <a:stretch/>
        </p:blipFill>
        <p:spPr>
          <a:xfrm rot="19887600">
            <a:off x="5219640" y="4005000"/>
            <a:ext cx="13478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8:36:36Z</dcterms:created>
  <dc:creator>Farnaz</dc:creator>
  <dc:description/>
  <dc:language>en-US</dc:language>
  <cp:lastModifiedBy>Farnaz</cp:lastModifiedBy>
  <dcterms:modified xsi:type="dcterms:W3CDTF">2010-10-22T08:58:58Z</dcterms:modified>
  <cp:revision>4</cp:revision>
  <dc:subject/>
  <dc:title>Slide 1</dc:title>
</cp:coreProperties>
</file>